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A2C31-6165-43D1-AD7A-0B75CC22C784}"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4D193A-DBFD-4B6A-A0EB-15DCBB3B5D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8D222-0249-429E-92C3-9CB7D07BD9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second situation, for which principles of proportionality and protection of human rights should still app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1525B-92F9-45DB-8442-524F7C2C2A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o be balanced with the interests of the investigation with respect for fundamental righ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62F7A-5549-4E27-B630-A30B82E62D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safeguards stated in article 15 of the Budapest Convention</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6D1B5-C961-4C8E-BA00-DC2E4D1DF0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ature of the procedural powers under the Budapest Convention have an impact on privacy and this should be considered while requesting a judicial authorization or giving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DF70F-75B9-4C28-B297-881ADFA8E2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It is important to note that in certain legal systems, destruction of copies of evidence will not be permitted, whereas in other systems, it will.</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861A2-B462-4A59-8AE7-64351B302C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minds of the importance of necessity and proportionality in authorizing specific, intrusive measures. It could be usefully completed by considerations related to safeguards under national law.</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BC4CE-4207-40F3-B2C8-DA5A3E20B5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Failure to ensure confidentiality may frustrate the exercise of a procedural power and possibly even an entire criminal investigation. Confidentiality may already be a general principle of the criminal procedure in certain countri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10B74-94B1-41DA-9540-88CBA7BA55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4279C-D92F-4F14-B452-2317ADD7BE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could usefully remind participants of specific, national law provisions when the coercive measure may affect any religious, medical or journalistic confidentiality or legal privilege.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C916C-B92B-461A-8A0D-1CD57EA4C1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measure sought.</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27F23-EB42-44C0-A42B-64C5E36BB4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reminder of procedural powers under the Budapest Convention regarding the collection of electronic evidence, and should be followed by some slides reminding participants of the conditions to exercise some of these procedural powers under national law</a:t>
            </a:r>
            <a:br>
              <a:rPr sz="1200"/>
            </a:br>
            <a:br>
              <a:rPr sz="1200"/>
            </a:br>
            <a:r>
              <a:rPr b="0" lang="en-US" sz="1200" spc="-1" strike="noStrike">
                <a:solidFill>
                  <a:srgbClr val="000000"/>
                </a:solidFill>
                <a:latin typeface="Calibri"/>
              </a:rPr>
              <a:t>Part Two relates to the general conditions and safeguards to exercise such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some of the questions related to electronic evidence raised while authorizing or conducting a hearing or trial</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F4629-F9FE-4090-B6BF-4A355A612A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principle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F3176-F5B4-44FF-97E2-BD143293AC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by the prosecution of the investigator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ACDCA-2825-4AAD-B2D0-87B7036B98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specific questions which may be raised at the drafting stage or at a hearing, namely the need for minimal, technical understanding, and the possible urgency of the measure sought.</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F1E39-FB19-429E-94E9-BD4B81BB6D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DFD17-4237-41E8-AA2D-2A12FFBEC1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7EABE-9EC4-4980-A013-DEBFABDE60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4D85E-EBDE-4D51-95E4-645BA28F02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decisions may be required, and how failing to rule urgently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7F104-E7A2-4F33-A0C8-D49C2AB1B5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BB6CF-FA4F-42B7-B5A7-0D48FE5719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56CD1-3A8D-4D59-A937-934794D957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3650B-19F4-4E2E-BCA2-C5A6E8B605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C5F43-A59D-41F1-93B9-DADE2B0940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CD6CB-44CA-4FE6-B1F9-A0894A316C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some parties, but not all,  require under their domestic legislation law enforcement officials/prosecutors to submit an application for exercise of procedural powers in relation to electronic evidence with a judicial authority. Article 15 only requires judicial supervision as one of the safeguard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conditions and safeguards which should be kept in mind when authorizing or exercising procedural power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2A16B-8B3C-4977-984D-890FF6ABA4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applies to all stages of the investigation and prosecution.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4FD923-76F9-41C5-B2D5-54A5FEE6F0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first situatio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8D6B1-916D-4574-9CE6-B837834A7E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B9087-8072-4B2E-98AB-DDFCE1991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54092-07A5-4CDF-B297-908FACA6C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AECA9-4C69-4012-BC78-C10318D63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3EE2E-DEDF-423C-B503-481D7A2A2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11D79-4E7F-4297-ABE8-5655C52C6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52B68-7C4B-4835-A8C9-085CB009A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5A872-1FEB-4991-9263-D3F0B3009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F4799-1E93-4B2D-B924-2A74AF552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23F8F-BCFA-49BA-8AB6-02E53F75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A1726-93F8-4B15-AAFC-EA5064510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39375-4EA0-4DCF-9DD9-A922B6937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61364-5CD8-4DF9-871E-1FB9E44CB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14994-C694-419C-8A37-4EE08FA8D0B4}"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0489E3-7D99-468C-84EE-DB759CB653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x.x.x and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eneral considerations for the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 other countries: judicial authorization without a hearing</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countries do not require a judicial hearing but require a specific authorization by a prosecutor or a judge for certain, coercive measures, such as search or seizure, including emails, infiltration or telecommunication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ame principle of proportionality and human right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C6BA2D-BB55-4730-8EDC-C08EA38EA0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ll aspects of </a:t>
            </a:r>
            <a:r>
              <a:rPr b="1" lang="en-GB" sz="2400" spc="-1" strike="noStrike">
                <a:solidFill>
                  <a:srgbClr val="ff0000"/>
                </a:solidFill>
                <a:latin typeface="Calibri"/>
              </a:rPr>
              <a:t>procedural powers </a:t>
            </a:r>
            <a:r>
              <a:rPr b="0" lang="en-GB" sz="2400" spc="-1" strike="noStrike">
                <a:solidFill>
                  <a:srgbClr val="000000"/>
                </a:solidFill>
                <a:latin typeface="Calibri"/>
              </a:rPr>
              <a:t>are covered by </a:t>
            </a:r>
            <a:r>
              <a:rPr b="1" lang="en-GB" sz="2400" spc="-1" strike="noStrike">
                <a:solidFill>
                  <a:srgbClr val="ff0000"/>
                </a:solidFill>
                <a:latin typeface="Calibri"/>
              </a:rPr>
              <a:t>conditions and safeguards</a:t>
            </a:r>
            <a:r>
              <a:rPr b="0" lang="en-GB" sz="2400" spc="-1" strike="noStrike">
                <a:solidFill>
                  <a:srgbClr val="000000"/>
                </a:solidFill>
                <a:latin typeface="Calibri"/>
              </a:rPr>
              <a:t> under </a:t>
            </a:r>
            <a:r>
              <a:rPr b="1" lang="en-GB" sz="2400" spc="-1" strike="noStrike">
                <a:solidFill>
                  <a:srgbClr val="ff0000"/>
                </a:solidFill>
                <a:latin typeface="Calibri"/>
              </a:rPr>
              <a:t>Article 15 of the Budapest Convention</a:t>
            </a:r>
            <a:endParaRPr b="0" lang="en-US" sz="2400" spc="-1" strike="noStrike">
              <a:solidFill>
                <a:srgbClr val="000000"/>
              </a:solidFill>
              <a:latin typeface="Arial"/>
            </a:endParaRPr>
          </a:p>
          <a:p>
            <a:pPr marL="325800" indent="-3258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terest of </a:t>
            </a:r>
            <a:r>
              <a:rPr b="1" lang="en-GB" sz="2400" spc="-1" strike="noStrike">
                <a:solidFill>
                  <a:srgbClr val="ff0000"/>
                </a:solidFill>
                <a:latin typeface="Calibri"/>
              </a:rPr>
              <a:t>law enforcement </a:t>
            </a:r>
            <a:r>
              <a:rPr b="0" lang="en-GB" sz="2400" spc="-1" strike="noStrike">
                <a:solidFill>
                  <a:srgbClr val="000000"/>
                </a:solidFill>
                <a:latin typeface="Calibri"/>
              </a:rPr>
              <a:t>must be </a:t>
            </a:r>
            <a:r>
              <a:rPr b="1" lang="en-GB" sz="2400" spc="-1" strike="noStrike">
                <a:solidFill>
                  <a:srgbClr val="ff0000"/>
                </a:solidFill>
                <a:latin typeface="Calibri"/>
              </a:rPr>
              <a:t>balanced </a:t>
            </a:r>
            <a:r>
              <a:rPr b="0" lang="en-GB" sz="2400" spc="-1" strike="noStrike">
                <a:solidFill>
                  <a:srgbClr val="000000"/>
                </a:solidFill>
                <a:latin typeface="Calibri"/>
              </a:rPr>
              <a:t>with respect for </a:t>
            </a:r>
            <a:r>
              <a:rPr b="1" lang="en-GB" sz="2400" spc="-1" strike="noStrike">
                <a:solidFill>
                  <a:srgbClr val="ff0000"/>
                </a:solidFill>
                <a:latin typeface="Calibri"/>
              </a:rPr>
              <a:t>fundamental right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ossible procedural safeguards include:</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Principle of </a:t>
            </a:r>
            <a:r>
              <a:rPr b="1" lang="en-GB" sz="2400" spc="-1" strike="noStrike">
                <a:solidFill>
                  <a:srgbClr val="ff0000"/>
                </a:solidFill>
                <a:latin typeface="Calibri"/>
              </a:rPr>
              <a:t>proportionality and necessity</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ights of </a:t>
            </a:r>
            <a:r>
              <a:rPr b="1" lang="en-GB" sz="2400" spc="-1" strike="noStrike">
                <a:solidFill>
                  <a:srgbClr val="ff0000"/>
                </a:solidFill>
                <a:latin typeface="Calibri"/>
              </a:rPr>
              <a:t>suspects and third partie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equirement for</a:t>
            </a:r>
            <a:r>
              <a:rPr b="1" lang="en-GB" sz="2400" spc="-1" strike="noStrike">
                <a:solidFill>
                  <a:srgbClr val="ff0000"/>
                </a:solidFill>
                <a:latin typeface="Calibri"/>
              </a:rPr>
              <a:t> ground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Limitation of </a:t>
            </a:r>
            <a:r>
              <a:rPr b="1" lang="en-GB" sz="2400" spc="-1" strike="noStrike">
                <a:solidFill>
                  <a:srgbClr val="ff0000"/>
                </a:solidFill>
                <a:latin typeface="Calibri"/>
              </a:rPr>
              <a:t>scope</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658ED2-6AB7-4F5A-AD42-20B1F818CF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icle 15 of the Budapest Convention</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15 – Conditions and safeguard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Each Party shall ensure that the establishment, implementation and application of the powers and procedures provided for in this Section are subject to conditions and safeguards provided for under its domestic law, which </a:t>
            </a:r>
            <a:r>
              <a:rPr b="0" lang="en-US" sz="1600" spc="-1" strike="noStrike">
                <a:solidFill>
                  <a:srgbClr val="ff0000"/>
                </a:solidFill>
                <a:latin typeface="Calibri"/>
              </a:rPr>
              <a:t>shall provide for the adequate protection of human rights and liberties,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principle of proportionali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a:t>
            </a:r>
            <a:r>
              <a:rPr b="0" lang="en-US" sz="1600" spc="-1" strike="noStrike">
                <a:solidFill>
                  <a:srgbClr val="ff0000"/>
                </a:solidFill>
                <a:latin typeface="Calibri"/>
              </a:rPr>
              <a:t>Such conditions and safeguards shall, as appropriate in view of the nature of the procedure or power concerned, </a:t>
            </a:r>
            <a:r>
              <a:rPr b="0" i="1" lang="en-US" sz="1600" spc="-1" strike="noStrike">
                <a:solidFill>
                  <a:srgbClr val="ff0000"/>
                </a:solidFill>
                <a:latin typeface="Calibri"/>
              </a:rPr>
              <a:t>inter alia</a:t>
            </a:r>
            <a:r>
              <a:rPr b="0" lang="en-US" sz="1600" spc="-1" strike="noStrike">
                <a:solidFill>
                  <a:srgbClr val="ff0000"/>
                </a:solidFill>
                <a:latin typeface="Calibri"/>
              </a:rPr>
              <a:t>, include judicial or other independent supervision, grounds justifying application, and limitation of the scope and the duration of such power or procedur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To the extent that it is consistent with the public interest, in particular the sound administration of justice, each Party shall consider the impact of the powers and procedures in this section upon the </a:t>
            </a:r>
            <a:r>
              <a:rPr b="0" lang="en-US" sz="1600" spc="-1" strike="noStrike">
                <a:solidFill>
                  <a:srgbClr val="ff0000"/>
                </a:solidFill>
                <a:latin typeface="Calibri"/>
              </a:rPr>
              <a:t>rights, responsibilities and legitimate interests of third parties. </a:t>
            </a: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F68171A-8472-4E5E-A603-1C8A7B8D74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DDF311-1238-4375-937A-EF5C481165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D99B6D-BA0A-4E99-9B9F-73D14AF31D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ty and proportionality</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should be limited to the </a:t>
            </a:r>
            <a:r>
              <a:rPr b="1" lang="en-US" sz="2800" spc="-1" strike="noStrike">
                <a:solidFill>
                  <a:srgbClr val="000000"/>
                </a:solidFill>
                <a:latin typeface="Calibri"/>
              </a:rPr>
              <a:t>minimum necessary for the purpose of the specific investigation according to national law requirements</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E7C3597-4AEC-42BD-8DB3-E34DDB857E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 if not a general principle of criminal investigation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rd parties, such as service providers  on your territory  or abroad, may not be subject to confidentiality by law</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4ACA26-4C86-46B1-BE24-60458F1CD5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19800F6-79BA-4F4A-9FC1-A46DDDD692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legal analysis needed to consider the possibility of infringement, as generally, specific conditions apply to these situation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241C0DF-CD04-4D5A-9079-F2F2F575C6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r what purpose is the measure necessar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4B131A-37D0-434E-B18E-0A6ACACAFB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rocedural powers – Budapest convention and national law</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tions and safeguard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0" lang="fr-FR" sz="2700" spc="-1" strike="noStrike">
                <a:solidFill>
                  <a:srgbClr val="000000"/>
                </a:solidFill>
                <a:latin typeface="Calibri"/>
              </a:rPr>
              <a:t>Judicial authorizations and hearing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ummary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121BBAD-E78C-42EC-8538-68D23E65A1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E369C6-C52E-42DA-BABD-FC0DFE1D48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25"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ified financial burden on the justice system</a:t>
            </a:r>
            <a:r>
              <a:rPr b="0" lang="en-GB"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72602C-325E-4C69-BE10-60F736D621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Judicial authorizations or hearing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2B76EB-6233-4EB6-8371-C773D51B6C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Reminder: Article 15 of the Budapest Convention</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Such conditions and safeguards shall, as appropriate in view of the nature of the procedure or power concerned, </a:t>
            </a:r>
            <a:r>
              <a:rPr b="0" i="1" lang="en-US" sz="3200" spc="-1" strike="noStrike">
                <a:solidFill>
                  <a:srgbClr val="000000"/>
                </a:solidFill>
                <a:latin typeface="Calibri"/>
              </a:rPr>
              <a:t>inter alia</a:t>
            </a:r>
            <a:r>
              <a:rPr b="0" lang="en-US" sz="3200" spc="-1" strike="noStrike">
                <a:solidFill>
                  <a:srgbClr val="000000"/>
                </a:solidFill>
                <a:latin typeface="Calibri"/>
              </a:rPr>
              <a:t>, include </a:t>
            </a:r>
            <a:r>
              <a:rPr b="1" lang="en-US" sz="3200" spc="-1" strike="noStrike">
                <a:solidFill>
                  <a:srgbClr val="ff0000"/>
                </a:solidFill>
                <a:latin typeface="Calibri"/>
              </a:rPr>
              <a:t>judicial or other independent supervision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CD323E-65ED-49D4-8AD6-D4B0F8B753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11F9D0F-AE06-4587-A619-FB3FE90520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ible urgency in getting an order or authorizatio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CC0BB7C-5262-466C-AAB2-6301116739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amples of urgent matter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66DF557-26FC-4357-9824-EDCAC6B6E5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requesting the application of these measures abroad…</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Generally, when the investigation requires the drafting of a mutual legal assistance, we should only ask for what is possible under our national law (admissibility issues).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DEBE0-5EAF-4F91-B8F3-C816C0FD79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7A136C8-1A35-4724-AEF6-1A257D4A4A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Recognize various considerations with respect to exercising the exercise procedural powers with respect measures regarding electronic evidence</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Explain the conditions and procedural safeguards that are relevant for the exercise of electronic evidence procedural power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6D3C53-F6F2-43F2-AB43-106C3F6C47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exercising the exercise procedural powers with respect measures regarding electronic evidence</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695247-7C01-472F-BE5B-FE45C3AD40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86C7DE-F605-4CD6-AC31-EFA73C2D5F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22CC592-EA1A-465D-AB49-05456DCF16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9465251-E083-49CD-A89C-7CE4D8779D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CB75D2-47BC-4B76-AED0-B489B0CFD1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Conditions and safeguards for the exercise of procedural power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C00DE7-8C42-4359-A1F9-7D3A7EF661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  when applicable</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uthorizing the meas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t>
            </a:r>
            <a:r>
              <a:rPr b="1" lang="en-GB" sz="2800" spc="-1" strike="noStrike">
                <a:solidFill>
                  <a:srgbClr val="ff0000"/>
                </a:solidFill>
                <a:latin typeface="Calibri"/>
              </a:rPr>
              <a:t>Exercising</a:t>
            </a:r>
            <a:r>
              <a:rPr b="0" lang="en-GB" sz="2800" spc="-1" strike="noStrike">
                <a:solidFill>
                  <a:srgbClr val="000000"/>
                </a:solidFill>
                <a:latin typeface="Calibri"/>
              </a:rPr>
              <a:t> the procedural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ow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2B14732-89E1-425D-A8E7-3B99102B7D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Judicial supervision</a:t>
            </a:r>
            <a:br>
              <a:rPr sz="4400"/>
            </a:br>
            <a:r>
              <a:rPr b="1" lang="en-GB" sz="4400" spc="-1" strike="noStrike">
                <a:solidFill>
                  <a:srgbClr val="000000"/>
                </a:solidFill>
                <a:latin typeface="Calibri"/>
              </a:rPr>
              <a:t>In certain countries: Hearing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ome countries require a judicial hearing with the </a:t>
            </a:r>
            <a:r>
              <a:rPr b="1" lang="en-GB" sz="2800" spc="-1" strike="noStrike">
                <a:solidFill>
                  <a:srgbClr val="ff0000"/>
                </a:solidFill>
                <a:latin typeface="Calibri"/>
              </a:rPr>
              <a:t>prosecutor</a:t>
            </a:r>
            <a:r>
              <a:rPr b="1" lang="en-GB" sz="2800" spc="-1" strike="noStrike">
                <a:solidFill>
                  <a:srgbClr val="000000"/>
                </a:solidFill>
                <a:latin typeface="Calibri"/>
              </a:rPr>
              <a:t> </a:t>
            </a:r>
            <a:r>
              <a:rPr b="0" lang="en-GB" sz="2800" spc="-1" strike="noStrike">
                <a:solidFill>
                  <a:srgbClr val="000000"/>
                </a:solidFill>
                <a:latin typeface="Calibri"/>
              </a:rPr>
              <a:t>and/or </a:t>
            </a:r>
            <a:r>
              <a:rPr b="1" lang="en-GB" sz="2800" spc="-1" strike="noStrike">
                <a:solidFill>
                  <a:srgbClr val="ff0000"/>
                </a:solidFill>
                <a:latin typeface="Calibri"/>
              </a:rPr>
              <a:t>law</a:t>
            </a:r>
            <a:r>
              <a:rPr b="1" lang="en-GB" sz="2800" spc="-1" strike="noStrike">
                <a:solidFill>
                  <a:srgbClr val="000000"/>
                </a:solidFill>
                <a:latin typeface="Calibri"/>
              </a:rPr>
              <a:t> </a:t>
            </a:r>
            <a:r>
              <a:rPr b="1" lang="en-GB" sz="2800" spc="-1" strike="noStrike">
                <a:solidFill>
                  <a:srgbClr val="ff0000"/>
                </a:solidFill>
                <a:latin typeface="Calibri"/>
              </a:rPr>
              <a:t>enforcement</a:t>
            </a:r>
            <a:r>
              <a:rPr b="1" lang="en-GB" sz="2800" spc="-1" strike="noStrike">
                <a:solidFill>
                  <a:srgbClr val="000000"/>
                </a:solidFill>
                <a:latin typeface="Calibri"/>
              </a:rPr>
              <a:t> </a:t>
            </a:r>
            <a:r>
              <a:rPr b="1" lang="en-GB" sz="2800" spc="-1" strike="noStrike">
                <a:solidFill>
                  <a:srgbClr val="ff0000"/>
                </a:solidFill>
                <a:latin typeface="Calibri"/>
              </a:rPr>
              <a:t>agency</a:t>
            </a:r>
            <a:r>
              <a:rPr b="0" lang="en-GB" sz="2800" spc="-1" strike="noStrike">
                <a:solidFill>
                  <a:srgbClr val="000000"/>
                </a:solidFill>
                <a:latin typeface="Calibri"/>
              </a:rPr>
              <a:t> officials before authorizing</a:t>
            </a: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ypically persons concerned with the investigation not aware of/cannot attend hearing (</a:t>
            </a:r>
            <a:r>
              <a:rPr b="1" lang="en-GB" sz="2800" spc="-1" strike="noStrike">
                <a:solidFill>
                  <a:srgbClr val="ff0000"/>
                </a:solidFill>
                <a:latin typeface="Calibri"/>
              </a:rPr>
              <a:t>ex-parte/confidential hearing</a:t>
            </a:r>
            <a:r>
              <a:rPr b="0" lang="en-GB" sz="2800" spc="-1" strike="noStrike">
                <a:solidFill>
                  <a:srgbClr val="000000"/>
                </a:solidFill>
                <a:latin typeface="Calibri"/>
              </a:rPr>
              <a:t>)</a:t>
            </a:r>
            <a:endParaRPr b="0" lang="en-US" sz="2800" spc="-1" strike="noStrike">
              <a:solidFill>
                <a:srgbClr val="000000"/>
              </a:solidFill>
              <a:latin typeface="Arial"/>
            </a:endParaRPr>
          </a:p>
          <a:p>
            <a:pPr marL="298440" indent="-2984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s usually do not want other parties present at the hearing</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EB2E90C-C6B8-42F5-9643-9DA03DF591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Emma Emma</cp:lastModifiedBy>
  <dcterms:modified xsi:type="dcterms:W3CDTF">2017-10-22T15:53:55Z</dcterms:modified>
  <cp:revision>495</cp:revision>
  <dc:subject/>
  <dc:title>Introductory Cybercrime Training for Judges and Prosecutors</dc:title>
</cp:coreProperties>
</file>